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B73-1027-454B-9D52-7AFE385F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57E-33B4-4942-B410-3A718FBA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BFA-C12E-4FB7-8902-694CB072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BA1-78C5-45BF-8A39-C9818EC7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994-AE00-4AC0-BB04-AE3A187A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688D-CF81-4D18-B742-7FBE91C8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46BC-319C-4243-ADDC-9142865E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B2D6-246C-4C9E-A52A-0E90EF74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143E-F48D-493E-AA25-5C806DCE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DB0-24D9-4506-AFDB-437F7CE6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B50D-731C-4E49-BB47-FEB340A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F2A-B192-4A50-BF33-23170D12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441F-7368-4BE8-AA47-08A22D8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0DB3-4082-4A9F-A6D2-A41C1526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1C64-1D9A-4B87-933C-BC7EBBDB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489-AF35-4328-B1B3-336F336D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101-B374-436A-A8B2-29EC622A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25F-19CB-4053-846B-31C8A57A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62A-5355-447C-8C74-12472BA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38C-8A7B-4BE9-9AEE-6E9AEEB7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2C9-108A-4A8F-B5DB-7D8184B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206-5AF0-453D-B9C0-E94E757F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A18-8B3D-40B2-BA34-26C5C81A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9C9-B631-419B-82FA-2E98B60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AF15-FD62-45B3-8F8E-D5E27B7908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B258-5542-4C38-A9E5-96BAD7906D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eamweaver, part 3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ebpage Tables and Image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118200" cy="670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934320" y="2286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orial2_D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utorial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7816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2 tutorials (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 a table-based web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table and cel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buttons/links using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with ‘rollover’ link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ouseovers causing “image substituting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s: Columns, Rows, Cell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54200" y="3733920"/>
          <a:ext cx="5523120" cy="2361960"/>
        </p:xfrm>
        <a:graphic>
          <a:graphicData uri="http://schemas.openxmlformats.org/drawingml/2006/table">
            <a:tbl>
              <a:tblPr/>
              <a:tblGrid>
                <a:gridCol w="1841040"/>
                <a:gridCol w="1840680"/>
                <a:gridCol w="1841400"/>
              </a:tblGrid>
              <a:tr h="78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5909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27432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w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62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w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424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w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9625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7242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4864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s: Merging Ce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54200" y="3733920"/>
          <a:ext cx="5523120" cy="2361960"/>
        </p:xfrm>
        <a:graphic>
          <a:graphicData uri="http://schemas.openxmlformats.org/drawingml/2006/table">
            <a:tbl>
              <a:tblPr/>
              <a:tblGrid>
                <a:gridCol w="1841760"/>
                <a:gridCol w="1839600"/>
                <a:gridCol w="1841760"/>
              </a:tblGrid>
              <a:tr h="78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909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2743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7432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343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rged” Cells 1,4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572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sted” Table in Cel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s: Nested T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54200" y="3733920"/>
          <a:ext cx="5523120" cy="2361960"/>
        </p:xfrm>
        <a:graphic>
          <a:graphicData uri="http://schemas.openxmlformats.org/drawingml/2006/table">
            <a:tbl>
              <a:tblPr/>
              <a:tblGrid>
                <a:gridCol w="1841760"/>
                <a:gridCol w="1839600"/>
                <a:gridCol w="1841760"/>
              </a:tblGrid>
              <a:tr h="78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Cell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82880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4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sted” Table: a table within a 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666880" y="3962520"/>
          <a:ext cx="1523520" cy="2019240"/>
        </p:xfrm>
        <a:graphic>
          <a:graphicData uri="http://schemas.openxmlformats.org/drawingml/2006/table">
            <a:tbl>
              <a:tblPr/>
              <a:tblGrid>
                <a:gridCol w="15235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 “Padding”, “Spacing”,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 “Border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096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with 2 rows, 2 columns (4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2668680"/>
            <a:ext cx="5867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le “Width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set the “main” table width to 780p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nt our page viewable in 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the most common browser set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page will still look good in 1024x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6 – 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lab 06 material from the Instructor’s Area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to you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W, create a site called “Cross Company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” it to the folder “cross_compan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320" y="109440"/>
            <a:ext cx="6738840" cy="6715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34320" y="2286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x.htm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utorial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6T06:50:45Z</dcterms:modified>
  <cp:revision>63</cp:revision>
  <dc:subject/>
  <dc:title>CS 473a &amp; 551a Requirements Engineering</dc:title>
</cp:coreProperties>
</file>