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B99-E74E-424D-AE54-0DB70C9A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287-B605-487D-969F-FF485FD2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89A-7076-4F6D-982F-3737C207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599-392C-47A5-9877-AC55BCA5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BF7-77EA-47FA-BB54-A7CF149C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AA0-16E3-4800-B494-CD3F1AD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4CD-5A72-4DB9-B1B9-71EBE0B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0649-F033-42A3-802E-5A4284F7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A96A-B7F4-41EA-8E29-459376CA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9FD9-DFEC-4FD6-B562-8148320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4E98-D2D3-4FF8-B8C1-F9A2BFE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2A9-A53D-4AB3-AAEE-74491BB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2DC7-288F-4555-896D-9140C08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D636-4B5E-42B3-9AF2-356423D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50C3-D728-4DA5-988A-EB90FAB3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0BC2-D6DA-4098-860E-3664509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594-C35E-4A01-B16E-0B1CECE1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D12-7FB9-4B3D-9EDD-6D4C201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953-02FE-4105-8159-59BB5B08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D98-EA3C-43EC-80FA-1DCC787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6F9-F97C-49C7-8983-56C7FF0D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03C-3B84-4FCE-8FB6-2EF4F53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7D4-B274-4A83-9C55-0EDAA15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F40-9369-4FEC-92C3-4341FB1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CB4-3434-4F9D-BBEA-CA0F8BA79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726-E9AF-4D65-B83A-490F68570D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429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und Editing with Aud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REE, advanced sound edi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platform: Windows, Linux, MacOS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reate/edit/modif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MP3, Ogg Vorbis, and WAV sound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 copy, splice, mix sound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speed or pitch of reco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download the software from</a:t>
            </a:r>
            <a:br>
              <a:rPr sz="2400"/>
            </a:b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audacity.sourceforge.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371600" y="554040"/>
            <a:ext cx="27432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tutorials (#3 is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udacity projects and exporting to WAV, MP3, SWV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p tracks to create a single tr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s: fade in/out, amplif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 sound into a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dphone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 few extra headphones are available from your 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one, sign your name on the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you’re done the lab, erase your name from the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efore you start, set up your headphones and ensure they are working correctl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page 2 in the tuto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Q: Where’s the Zoo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2133720"/>
          <a:ext cx="8458200" cy="28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lreid</cp:lastModifiedBy>
  <dcterms:modified xsi:type="dcterms:W3CDTF">2008-09-15T15:15:25Z</dcterms:modified>
  <cp:revision>71</cp:revision>
  <dc:subject/>
  <dc:title>CS 473a &amp; 551a Requirements Engineering</dc:title>
</cp:coreProperties>
</file>