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764-5CB0-4C15-9DB7-A681F934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CC7-BABD-4370-AEB8-A52FBA9E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6EE-ED2D-45A0-BF3B-0BC9A729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D32-6759-4578-99D0-D87D0E8F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A7CA-1E45-4E06-B5CA-87F2B5E7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FB11-457D-402C-A105-AF8D43B0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D111-994B-4C38-84EC-612DE951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575E-C71E-48AE-AF00-13A1B697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649F-9ED3-4025-A26A-532D1D55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84B1-6AD4-489C-A0A5-1F8B7A9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2041-AEB4-4099-B7D9-0EACC492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A13-BEF9-4DD6-9443-EE90423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9B49-A2CA-47FE-83BC-904A6DFD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72C2-C479-4E61-8E8A-7358B91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4D05-2FD8-41AE-BFEE-40EEA69B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040-F59C-47C6-A07F-4173702D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C62-F664-4ECA-A958-77F75737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8AA-063B-43AD-8658-40205C4E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8D4-0351-4E8C-8E52-8BBAD610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0EC-DFB3-4FCC-A784-F7138D9D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EFB-706C-430E-9EDF-D3550664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CE0-89D4-458E-B2CD-5C3253AB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84B-4294-4BF5-B081-3C4E26A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457-01D3-4C02-AF50-95199E8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A73-78BF-43FE-99DB-9DB5809CA7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F72-7398-42DE-A3E4-7CE900D2B4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eamweaver, 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7816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5 tutorials (unmarked) and 1 exercise (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bed images in web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webpage backgr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ordered and unorder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a webpage can show up differently in different brow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links to elements within a web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links to other web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EFORE YOU STAR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week, we set up multiple DW projects (called “Site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st week’s Sites with new material,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ing the material (in folders) from the Instructor’s Area (L:) to your Z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ing the Dreamweaver Sites about the new material (fold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ust be done BEFORE you open DW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 if you already opened DW, close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34160" y="5410080"/>
            <a:ext cx="714240" cy="107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52960" y="5562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24800" y="4405320"/>
            <a:ext cx="771480" cy="9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52960" y="45720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05720" y="3581280"/>
            <a:ext cx="85716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43600" y="36576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705720" y="2743200"/>
            <a:ext cx="914400" cy="871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52960" y="2895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781680" y="1828800"/>
            <a:ext cx="700200" cy="800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52960" y="19051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Structure (from last wee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76720" y="3581280"/>
          <a:ext cx="57600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3581280"/>
                    <a:ext cx="576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228600" y="3537000"/>
            <a:ext cx="2303640" cy="730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438280" y="36576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6576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733920"/>
            <a:ext cx="609840" cy="15228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971800"/>
            <a:ext cx="152280" cy="281952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1981080"/>
            <a:ext cx="152280" cy="990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952880"/>
            <a:ext cx="4800600" cy="116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Gray: content unchanged from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: content updated from last week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876920" y="3581280"/>
          <a:ext cx="41112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3581280"/>
                    <a:ext cx="411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Sit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7816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“Sites” are just “shortcuts” to a folder on your hard d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re keeping the same DW Sites, but changing the folder they link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W Sites will now point to the lab05 folder (instead of lab04 fold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alt” vs. “title” tex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lternative” tex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non-visual browsers (e.g. visually impair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when “display images” is dis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show up when you “hover” over an image in IE, bu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Firefox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alt” vs. “title” tex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itle” tex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s up when you “hover” over an image for both I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refox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provide information for non-visual browsers, or when “display images” are dis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6T00:14:12Z</dcterms:modified>
  <cp:revision>62</cp:revision>
  <dc:subject/>
  <dc:title>CS 473a &amp; 551a Requirements Engineering</dc:title>
</cp:coreProperties>
</file>