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FAA3-61E3-45C9-8991-37BAF6B4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0848-BF65-4391-A597-D28D0B2C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2588-F7F6-4A1F-95DC-D2D1042F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E938-F0BF-4C5F-A8B8-BD93ED72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4541-EE18-4606-B174-6E0ED15E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2BBF-C859-4731-8752-36FEDFE6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CF9F-B3B9-49D4-AA9B-AD7632C9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36AD-2EFD-4200-8FA7-D9C2DD2E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B866-4C1B-4F93-974C-F3358782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02DC-E973-43CB-BBBD-39FCC398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47BF-AA3B-415E-97CE-457BA6B7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5E29-0C7B-4FBA-9B9B-40857E4D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25D0-83C1-4DAE-83C0-8AC42C61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9681-2100-416E-AE6D-F5E8ACF2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4CC7-149A-4EF7-9E67-15D8BAD5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8BB9-C874-4F86-9D41-E9695724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4DFE-A036-4ECA-A872-A99696C8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ACBB-CF5D-43D1-A5D3-A41934B9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422D-15A7-47F6-844A-1BF55CD6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267D-6668-4DC7-B445-F4DD816D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B8B6-2564-46BB-AC6D-702F2A7D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D824-628C-4B6D-85AC-5617354D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9C81-4507-4465-A1F6-E0B5CEFD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8399-2759-40D0-90E0-8052AB53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0DD6-9A7B-43E3-AF25-85019C9681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A12F-0129-46C5-B24B-425EBB0572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033 Tutorial 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33526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un with Animation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Flash part 2 of 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la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2017440"/>
            <a:ext cx="716292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de up of 3 tutorials (all are mark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is lab, you wil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more realistic anim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 better control over th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y organized: Layer Folders and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how Symbols can make other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 with Movie Clip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e Video Clips and Movie Clip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ork with some really fun effect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ame “Markers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2328840" cy="911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2328840" cy="911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248520" y="2133720"/>
            <a:ext cx="2328840" cy="911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33520" y="4118040"/>
            <a:ext cx="2328840" cy="911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3429000" y="4118040"/>
            <a:ext cx="2328840" cy="911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6248520" y="4118040"/>
            <a:ext cx="2328840" cy="911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3520" y="3063960"/>
            <a:ext cx="243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 blank (uncolored) rectangle indicates ther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s no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30481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 empty keyfram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white circl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3048120"/>
            <a:ext cx="24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 keyframe that contai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 object (black circl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50292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last empty frame of a layer (white rectangl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502920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 tween is represented by an arr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5880" y="5029200"/>
            <a:ext cx="251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ashes indicate a broken tween (missing keyframe or objec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2666880"/>
            <a:ext cx="380880" cy="152640"/>
          </a:xfrm>
          <a:prstGeom prst="rightArrow">
            <a:avLst>
              <a:gd name="adj1" fmla="val 50000"/>
              <a:gd name="adj2" fmla="val 623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00560" y="2638440"/>
            <a:ext cx="304560" cy="304920"/>
          </a:xfrm>
          <a:prstGeom prst="donut">
            <a:avLst>
              <a:gd name="adj" fmla="val 1093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00640" y="2847960"/>
            <a:ext cx="304920" cy="304920"/>
          </a:xfrm>
          <a:prstGeom prst="donut">
            <a:avLst>
              <a:gd name="adj" fmla="val 104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81280" y="4600440"/>
            <a:ext cx="304920" cy="304920"/>
          </a:xfrm>
          <a:prstGeom prst="donut">
            <a:avLst>
              <a:gd name="adj" fmla="val 114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52960" y="4357800"/>
            <a:ext cx="1371600" cy="380880"/>
          </a:xfrm>
          <a:prstGeom prst="donut">
            <a:avLst>
              <a:gd name="adj" fmla="val 47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4343400"/>
            <a:ext cx="1371600" cy="380880"/>
          </a:xfrm>
          <a:prstGeom prst="donut">
            <a:avLst>
              <a:gd name="adj" fmla="val 47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4:42:04Z</dcterms:created>
  <dc:creator>Cole</dc:creator>
  <dc:description/>
  <dc:language>en-US</dc:language>
  <cp:lastModifiedBy>Cole</cp:lastModifiedBy>
  <dcterms:modified xsi:type="dcterms:W3CDTF">2007-08-26T01:52:11Z</dcterms:modified>
  <cp:revision>78</cp:revision>
  <dc:subject/>
  <dc:title>CS 473a &amp; 551a Requirements Engineering</dc:title>
</cp:coreProperties>
</file>