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2236-6C67-4121-AC76-3EB4DABA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81A0-ADA6-4A67-B134-46140902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C196-7463-410C-A982-39DCEED0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0864-C7FE-4565-9EAF-B5ADA9B6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1D97-CBF7-4A97-84ED-EC6003D1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B612-0353-46EE-A4B5-DB02F2D4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C489-590E-4AC8-BBD6-314B842B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E6F5-88B9-4809-A736-FA90ABE5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3C73-4314-446F-A793-5BFE81D2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A2FB-6827-4FC0-8160-AC554B1B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2103-F129-46B5-8E61-FBF2E361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058A-DEE1-46CD-9210-392D53FA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EBD0-ADE5-4D9F-A9F0-95D3B113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8685-C668-4A40-829C-EE30CB29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D75B-0259-4247-8BAC-1E23679A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3ACE-8CC4-4836-BAA5-F977BF5F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2D07-3300-4583-A2FB-12EBE01F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F263-8663-485E-B76F-097F1455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1441-435F-48CB-9B3C-1ED6712C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FC8C-3641-474B-8D0E-57BDE4B9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476E-EA1B-4845-A754-75DF1871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30B-89A8-4236-BC9C-A581C3DC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4567-B2E5-44A5-B5FC-632E70F8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E081-1219-4E22-9DB1-9DA8ABF8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7A6E-F3B6-4949-BB56-075DC9D073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07CB-0550-4A5F-8E15-FDD6911E9A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033 Tutorial 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429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ovies and Slideshows with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indows Movie 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ndows Movie Mak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65530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create sideshows and movies from source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files”: the images and movie clips that you use as a “starting poin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g-and-drop interface makes making movies ea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d on your home Windows PC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ndows ME, XP, and Vi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a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65530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de up of 3 tutori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torials 2 &amp; 3 will be mar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lab, you wil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 familiar with the Movie Maker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how to create slidesh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how to create movies with s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how to add text and eff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 with time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vie Maker Inter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55680" y="1878120"/>
            <a:ext cx="605952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 on Movie Maker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2017800"/>
            <a:ext cx="6705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ovies and slideshows you make are calle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jec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SWM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6680" indent="-4431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al source files are NOT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86680" indent="-4431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files aren’t even copied into the pro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86680" indent="-4431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roject” is really just a “list of instructions” on how the various clips will be put together to make it “look” like a mov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once you start working on a Pro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6680" indent="-44316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N’T move/alter/delete the original source fil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86680" indent="-44316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you copy it elsewhere, you must ALSO copy the original source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 on Exporting a Mov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2640" y="2017800"/>
            <a:ext cx="6705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you “export” a movie, you save it t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M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Windows Media Video)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DOES copy in the source fil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a WMV movie does NOT need the original fil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you cant undo or further modify these files any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torial 9 –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64771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 out the tutori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files from the “Instructors Are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up Movie Mak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ar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Programs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indows Movie Ma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4:42:04Z</dcterms:created>
  <dc:creator>Cole</dc:creator>
  <dc:description/>
  <dc:language>en-US</dc:language>
  <cp:lastModifiedBy>Cole</cp:lastModifiedBy>
  <dcterms:modified xsi:type="dcterms:W3CDTF">2007-08-09T20:33:24Z</dcterms:modified>
  <cp:revision>64</cp:revision>
  <dc:subject/>
  <dc:title>CS 473a &amp; 551a Requirements Engineering</dc:title>
</cp:coreProperties>
</file>