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54E-0482-4B79-BCA8-14F62CF2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C67-C5D9-43EF-8724-A36914FE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43E-A9EB-451D-8905-D835E428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83B-C738-4EF8-BE08-427D67CE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671E-5778-481B-9708-602C358D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CC6A-F1E8-4C78-8DCE-DA8AF92D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0AF0-F116-4734-97EA-C2CD7730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68A0-D71B-4E3A-880E-C4D8D73B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E720-0310-473F-BED3-4557A366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1CA6-ACDB-4F7E-87D3-C9E105C1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0592-ABFF-4DE0-A2EB-BA10B88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07B-435F-42AD-925D-4D962D5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CB7F-1179-4D0D-8356-449B8113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3AD8-F229-40D5-B663-2075681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A92D-6D5F-4DA7-8FDF-352633C4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9CB2-7E9F-4F2A-947E-FA547157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CC15-1851-4133-93F8-7456DE8C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9AF-78D8-4D11-8788-578BFB90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300-1F68-4A47-A82E-76B5375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EE9-FD3F-4135-8177-0B499BCB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689-8F44-4B0F-BE33-E2C035BF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097-166A-4D0E-9FA4-23C150F3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C93-5C24-4ADD-8EE4-9E2B938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34F-F444-433B-B9DA-2820AE1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9B2B-A016-44D2-B870-C52CD8141F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C7EA-2BF2-45C9-B77F-F41069CA50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torial 3 –Image Editing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s more “advanced” concep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ating/Fli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r”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489040"/>
            <a:ext cx="45720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imposing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ing a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ng part of a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st by Layer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6553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4 Exerc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2 pages of the tutorial shows end product for each exer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 to it during the exercis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ersi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-and-white printouts wont show you the colors properl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419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17800"/>
            <a:ext cx="69343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1. If you can’t see all of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oom in or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gnifying glass too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om in= left click; Zoom out=Alt + cli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2. SAVE FREQUENTL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3. When “Undo” isn’t enoug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History T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you undo anything since file was ope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 3 Tip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Tab: “Advanced Undo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35268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00364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19320" y="1905120"/>
          <a:ext cx="761976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61976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Tab: “Advanced Undo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35268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500364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1905120"/>
          <a:ext cx="74674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4674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Note - Photosh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s to do something in Photo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tutorials only cover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hotoshop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more tutorials available on the Internet (Google them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can’t figure out how to do something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your TA!!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3 –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out the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the folder “lab03” from the “Instructors Area” to your Z:\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ors Area: Set up as “L:\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luck!!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7-31T04:32:39Z</dcterms:modified>
  <cp:revision>50</cp:revision>
  <dc:subject/>
  <dc:title>CS 473a &amp; 551a Requirements Engineering</dc:title>
</cp:coreProperties>
</file>