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26BD-1E5A-412A-A9D6-A90BA8008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79F0-77C3-4344-B947-DE9E3A923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2A5A-B981-4BBA-854B-CA077A185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0610-0564-4395-8830-D544224AC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CBFD2-1EF7-4EB6-9335-25159B5EF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0B212-60E8-4FB6-86A4-3BBB314BA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8EF8D-A304-44FF-AF8C-00DE65988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4DFD6-4AB0-4546-8516-BA5B67A4C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0A403-3E68-4208-8743-AEF13DC73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17D36-6DFF-4227-B662-38DFEE11A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BA15F-6C9A-4178-9D49-1984E6FD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6747-E969-411C-9A61-65CBCE1BB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36045-4C97-4F3B-A4E3-321228C7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27D74-B363-493D-8F5E-77C5E1A6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00C71-B7A6-49F1-B497-D37B1103D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DC163-AD0F-4F0C-A6BE-029BF869B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24E94-DC30-45D2-9668-8238DC843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6257-B103-4342-9A9D-4F08376EB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9488-8A94-4BD2-A77C-96AADDF5A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C5CF-45E7-467D-968F-ABEC50011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5FED-F9D8-41A8-9A21-DE0465628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4FB5-1410-4877-BC09-740FAE93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F47E-C2BA-4952-925E-1FF94762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B401-62A7-43F7-9978-DF4E21C1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523E1-5C8D-442D-B2F4-28075537854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24A0D-9D7D-424D-AD1D-227A36158D1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myvlab.uwo.ca/" TargetMode="External"/><Relationship Id="rId2" Type="http://schemas.openxmlformats.org/officeDocument/2006/relationships/hyperlink" Target="http://myvlab.uwo.ca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S03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3429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utorial 2 – Image Ed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age Editing with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obe Photoshop CS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3000" y="2017440"/>
            <a:ext cx="647712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learn and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 many of the features of more powerful graphics pack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y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can use Photoshop 8 (previous version) for free at home throug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myvlab.uwo.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Photoshop 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2017440"/>
            <a:ext cx="647712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de up of 4 Exerci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2 pages of the tutorial shows end product for each exerc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 to it during the exercise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rcise is step-by-step and builds on the previous exerc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Exercise 4 will be gra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s 1-3 teach you the skills complete i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tion to Lay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2017440"/>
            <a:ext cx="647712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rcise starts with an original imag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he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ackground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item we add to the image will be added to 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new lay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hat sits “on top” of the background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means we wont change the original picture, jus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d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i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even control which layers should appear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ing Lay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3733920" y="251460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ackground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09880" y="39625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ew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5486400"/>
            <a:ext cx="403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Background + New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2154240" cy="48006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371600" y="3352680"/>
            <a:ext cx="228600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71600" y="5003640"/>
            <a:ext cx="228600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te on the 2 File Typ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2017440"/>
            <a:ext cx="647712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.PSD fil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dobe Photoshop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ains all the information for the image you edi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keeps all the layers separ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need Photoshop to look at these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.GIF fil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Graphics Interchange Format fil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iversal” files that can be read on any computer (don’t need Photosho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es not keep the layers separated, but irreversibly “mashes” them all toge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nal Note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3000" y="2017440"/>
            <a:ext cx="647712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fore you leave, please log off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whoever sits at your computer next ca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up all your printer quo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ete your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 my personal pet peeve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rrange your icons </a:t>
            </a:r>
            <a:r>
              <a:rPr b="1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utorial 2 –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43000" y="2017800"/>
            <a:ext cx="647712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nt out the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the folder “lab02” from the “Instructors Area” to your Z:\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ructors Area: You set this up to be “L:\” in Lab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also get at Instructors Area by opening any folder, and where it says “Address”, type i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\\koala\Courses\cs0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luck!! </a:t>
            </a:r>
            <a:r>
              <a:rPr b="0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2T14:42:04Z</dcterms:created>
  <dc:creator>Cole</dc:creator>
  <dc:description/>
  <dc:language>en-US</dc:language>
  <cp:lastModifiedBy>Cole</cp:lastModifiedBy>
  <dcterms:modified xsi:type="dcterms:W3CDTF">2007-07-31T04:26:21Z</dcterms:modified>
  <cp:revision>45</cp:revision>
  <dc:subject/>
  <dc:title>CS 473a &amp; 551a Requirements Engineering</dc:title>
</cp:coreProperties>
</file>