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8AF-A76B-4A3E-A927-2E251979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9D9-92D9-4CFA-8F59-15B1182E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926-C5F8-49D2-8593-8CE81861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A07-9955-438A-B77F-2D2986E0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35FE-82A1-4290-B980-E0F419CF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155-6E56-447C-9B38-EA7F4FF1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FC89-BDDE-43E4-A911-0F0F2AA5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FC10-C203-4C7D-8C5F-B5D9A1D5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B09E-6C0F-4DC5-A8BF-37BDB4CA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781C-78D6-4304-90B9-7E0A9A3F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9CCD-2C19-4E18-A627-D4AA369C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277-D81B-4093-8955-270E60FC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17D0-3363-4D5A-B96D-B4FC211E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0D6A-6E79-4E51-A16A-2C738DA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5160-566C-46C2-A484-7410C910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611E-3D72-4FD7-9567-8357E037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7D20-75F0-4051-A6F5-329056F1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74D-F7C4-4FE6-BE86-EFAC0D1E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95B-8899-4258-9D13-7F5E63B5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C75-CDDC-446E-A627-A7573441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FB9-8C99-4CB3-99B0-E1360510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8F7-8D9C-4AD2-A968-AE88FCCD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9B4-71BC-4B0D-8C7C-45525150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664-C57D-4DE6-BD34-3EAF7B97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8412-8DE9-4AF2-80E1-C32B016D09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9966-CA2E-4604-A65E-68CE6AC169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oduction to Anim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Flash part 1 of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71629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4 tutorials (last 2 are 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familiar with the Flash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“scene” and add objects t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ce between Shapes and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to work with a Timeline an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tion and Shape “Tween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 as SWF and in HTML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Video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line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269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3152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me “Marker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33520" y="411804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429000" y="4118040"/>
            <a:ext cx="2328840" cy="91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248520" y="4118040"/>
            <a:ext cx="2328840" cy="91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306396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blank (uncolored) rectangle indicates ther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 no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048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 empty keyfram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white circ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304812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keyframe that conta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 object (black circ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0292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last empty frame of a layer (white rectang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0292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tween is represented by an arr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0292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ashes indicate a broken tween (missing keyframe or objec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6668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00560" y="2638440"/>
            <a:ext cx="304560" cy="304920"/>
          </a:xfrm>
          <a:prstGeom prst="donut">
            <a:avLst>
              <a:gd name="adj" fmla="val 109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00640" y="2847960"/>
            <a:ext cx="304920" cy="304920"/>
          </a:xfrm>
          <a:prstGeom prst="donut">
            <a:avLst>
              <a:gd name="adj" fmla="val 104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81280" y="4600440"/>
            <a:ext cx="304920" cy="304920"/>
          </a:xfrm>
          <a:prstGeom prst="donut">
            <a:avLst>
              <a:gd name="adj" fmla="val 114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52960" y="4357800"/>
            <a:ext cx="1371600" cy="380880"/>
          </a:xfrm>
          <a:prstGeom prst="donut">
            <a:avLst>
              <a:gd name="adj" fmla="val 4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343400"/>
            <a:ext cx="1371600" cy="380880"/>
          </a:xfrm>
          <a:prstGeom prst="donut">
            <a:avLst>
              <a:gd name="adj" fmla="val 4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71629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ate the “History” Featu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 &gt; Other Panels &gt; Hist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22T00:41:37Z</dcterms:modified>
  <cp:revision>73</cp:revision>
  <dc:subject/>
  <dc:title>CS 473a &amp; 551a Requirements Engineering</dc:title>
</cp:coreProperties>
</file>