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F1D-7878-4244-A854-1B080B5E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153-FB95-4D56-B1A3-7840B86D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2F9-68BE-4C3F-803D-183EA4A8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0C1F-CA19-44D2-8CDA-C4D633EB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2B00-5997-4A45-A44F-F1143A4B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219F-B0CE-4CFB-9DC1-D7D4F8AA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7273-2986-4976-A397-FCD56FDC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D117-1D10-410A-B077-F79513C2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A8B1-3BC1-49B8-8A89-C404BEFF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9250-639A-4E67-90A5-15970F56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687C-EADE-4B0B-9B9E-44F11BD5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064-BBAA-4A54-A33C-E42D3962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1D53-7F9F-4AA4-8DD1-B483D104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894D-2A3B-405B-A1BF-6E074DD1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6BE2-A468-4041-9C6C-CBC647F5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63E9-B9B2-4334-ABF3-97D22A1D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5053-42C3-44F6-B466-FBF82EE6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1B2-3FBC-411F-8DDC-80CAA3F3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DAA-6E04-48BA-8380-412954EF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406-EC01-44E4-A0D8-12FEAB56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3459-493B-4A8B-9DD5-E30D2AB9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366-5C3A-4758-AB28-2852FD98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EE2-6945-4A72-AB35-461284CA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A67-34BB-456B-AB4E-0873D8C4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58C9-ACF6-439E-B823-29BC3E3E8C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402B-F0E4-4F8A-A259-689738006B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kssidhu@uwo.c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S033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4290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torial 1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SH and Website “Publishin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-FT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3124080"/>
            <a:ext cx="6477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actual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s in 1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hell Client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type in commands by h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t its in Unix, so we’ll stay away from it as much as poss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ile Transfer Client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at we will use to actually transfer files to Pan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st like moving a file from one folder to another in Wind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279072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ting Permis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6324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time we put a new file on Panther, it is “locked” so only we can access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we want to make our files so tha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 the Internet can see i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will have to change its “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ermiss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iest way: every time you make a new file, go to the Secure Shell window and type in “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publis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4419720"/>
            <a:ext cx="56674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t’s Set Up Your Printers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he printers in the building are connected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to tell your computer that we want to use the printer in MC-2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ing costs 5 cents/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get $15.00 of free print quo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fund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ting PDF Fi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3152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print the PDF tutorial properly in the lab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 the PDF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on Fi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 a checkmark beside “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int As Im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ting PDF Fi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24844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our TA is Co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bout m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’s student in Computer 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ence working at I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d my undergrad right here at Wes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 email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kssidhu@uwo.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ice hours: Mondays 11:30am-1:30pm, in MC-2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out the tutorial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78168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dance is manda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th 10% of your final 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tutorials in total (1 per wee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the “best” 10 tutorial marks will cou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finish the tutorial, you get full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torial material *will* be on the ex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re to do assignment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labs have all software for this course inst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C-23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C-2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GenLabs have Photoshop and Dreamweaver install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CB-10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U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older versions of Photoshop, Dreamweaver, Flash fine to use for assignments (e.g. from ho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sk us first about your specific version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 </a:t>
            </a:r>
            <a:r>
              <a:rPr b="0" lang="en-US" sz="4400" spc="-1" strike="noStrike">
                <a:solidFill>
                  <a:srgbClr val="333399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s will be multiple choic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nt be anything hard (like the exact keystroke combination to do something, or how to spell Vivi’s last na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ample: Which of the following is a common image file forma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e of the abo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 and Websi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one us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y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SN Spa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’re like “coloring books”, as everything’s already done for you, and you just pick your col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teach you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TM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which is like giving you a pen so you can draw your own pi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in this case, design a webpage exactly how you wan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 on Serv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have to put the web pages we make on a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: a computer that’s on all the time and connected to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it never gets turned off, your website will always b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eople running the servers will take care of security and computer mainten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nther” and “Publish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7086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anth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computer (“server”) that will be hosting you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ttp://www.publish.uwo.ca/~usern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address to get at your website from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eans we will connect to the computer “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anth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only to upload ou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nnect to “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ublish.uwo.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when we want to actually SEE the website o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-FT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64771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move our files to Panth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“File Transfer Protoco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stands for “Secur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42:04Z</dcterms:created>
  <dc:creator>Cole</dc:creator>
  <dc:description/>
  <dc:language>en-US</dc:language>
  <cp:lastModifiedBy>lreid</cp:lastModifiedBy>
  <dcterms:modified xsi:type="dcterms:W3CDTF">2008-09-15T15:15:38Z</dcterms:modified>
  <cp:revision>49</cp:revision>
  <dc:subject/>
  <dc:title>CS 473a &amp; 551a Requirements Engineering</dc:title>
</cp:coreProperties>
</file>