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EA0-89AF-4F0E-A01E-17F7764D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156E-103D-4F53-8815-015651BC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5C4A-61B7-42E6-822B-DDEBFFA2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89C-DCC1-4655-866C-EB8A6140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22F1-E189-4240-A6B8-C52E0E64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2A61-1FB5-4930-A0F3-F4645281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9DA5-03DA-4BCB-987F-1DD38426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9E49-D0F5-4AFA-BDEF-5C25AC15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310A-0436-4B21-BD67-FAAC539C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0235-9CAF-4551-A8CF-CBEB95D5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3C87-FCE0-46D5-9DFF-AE5FCDED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291-3C8B-41A0-9736-7406A9AC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2683-B0CB-4829-B87E-F5A24770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0383-D662-4F5F-8484-CDB5D990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E08C-D069-4E22-A568-F89ACDB9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D400-7FF8-4E91-8125-BC2D9173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0198-F0FE-4484-9B79-237C98D8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CB3-BDFF-4944-9ED6-2360D423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AD24-63BB-4E80-8E8F-BCF5359E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0A13-F26D-40F8-B678-5BDECFDA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55D4-4983-4149-BDC6-D4BF882E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49D1-4539-4CA0-8C28-C95942C6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3B4-1F90-42A4-9595-01138B86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725B-6721-4137-9496-42506FE2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721A-D193-4DFB-8BD7-B2F09A14F1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D4BC-BE90-4F91-8734-CB203B280B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033 Tutorial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429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ebpage Design with Dreamwea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ercise 2 – Final Produ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1863720"/>
            <a:ext cx="64008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torial 4 –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64771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 out the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copy files from the “Instructors Area”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will be copying the files through Dreamweaver inst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up Dreamwea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ar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Programs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dobe Design Premium CS3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Macromedia Dreamweaver CS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734160" y="5410080"/>
            <a:ext cx="714240" cy="1071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952960" y="55627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724800" y="4405320"/>
            <a:ext cx="771480" cy="928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952960" y="45720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705720" y="3581280"/>
            <a:ext cx="857160" cy="914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943600" y="36576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705720" y="2743200"/>
            <a:ext cx="914400" cy="871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952960" y="2895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6781680" y="1828800"/>
            <a:ext cx="700200" cy="80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952960" y="19051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 on “File Structure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276720" y="3505320"/>
          <a:ext cx="576000" cy="70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6720" y="3505320"/>
                    <a:ext cx="5760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228600" y="3537000"/>
            <a:ext cx="2303640" cy="730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438280" y="36576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365760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733920"/>
            <a:ext cx="609840" cy="152280"/>
          </a:xfrm>
          <a:prstGeom prst="flowChartProcess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1981080"/>
            <a:ext cx="152280" cy="3810240"/>
          </a:xfrm>
          <a:prstGeom prst="flowChartProcess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800600" y="3533760"/>
          <a:ext cx="503280" cy="733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533760"/>
                    <a:ext cx="503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bpage Design with Dreamweaver CS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65530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-of-the-art Webpage Desig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 many advanced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cover basic ones in this cou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can use it free from Geblabs too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CB10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U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a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65530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de up of 3 tutorials (unmarked) and 1 exercise (mark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lab, you wil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 familiar with the Dreamweaver (DW)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how to create and remove “site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how to create web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how to use the WYSIWYG interface to generate 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Dreamweaver Inter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 on “Sites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64771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 lets you set up multiple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are called “Site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te” refers to “web site”, which can be made up of more than 1 webpag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6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ways to create a “Site” in DW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the startup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the “Site” Menu 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the “File Panel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From the Startup Wind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3000" y="184644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From the “Site” Menu B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14376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From the “File Panel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1437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torial 3 – Final Produ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32448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4:42:04Z</dcterms:created>
  <dc:creator>Cole</dc:creator>
  <dc:description/>
  <dc:language>en-US</dc:language>
  <cp:lastModifiedBy>Cole</cp:lastModifiedBy>
  <dcterms:modified xsi:type="dcterms:W3CDTF">2007-08-05T10:18:58Z</dcterms:modified>
  <cp:revision>59</cp:revision>
  <dc:subject/>
  <dc:title>CS 473a &amp; 551a Requirements Engineering</dc:title>
</cp:coreProperties>
</file>